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FC1-68FF-4476-A57F-C4B04B1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DC0-7F14-4A81-9AAA-587FADA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1C-274C-4EA8-84D6-EA83B52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D4A-3524-45F6-81E6-81CF1904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A3B-0A47-492D-9F3A-409E80A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10A-9FD2-4722-9CEA-DF837780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5E8-0065-4B61-BE4F-0925A88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58F-494D-4D3D-A7C0-A397AA9E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00B-4DE2-4586-B13A-D3A0063A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4DB-D6F1-4D47-AC35-D41B60D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DB5-53ED-4666-A6EF-A11B15E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B8A-9C63-44E1-B2DB-C765A8B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55A-9057-48EB-9CA6-DF25D4E5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8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400" y="533412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15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Object 4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ammy</cp:lastModifiedBy>
  <dcterms:modified xsi:type="dcterms:W3CDTF">2012-11-25T16:46:12Z</dcterms:modified>
  <cp:revision>41</cp:revision>
  <dc:subject>Language Arts</dc:subject>
  <dc:title>How Do I Write a Friendly Letter</dc:title>
</cp:coreProperties>
</file>